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D84-5345-49E2-BAE4-DF956DA1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5EE-0493-4766-AFC3-D97F36EB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C1E-FEDA-4109-BD63-25547083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DE2-AF33-4A0A-A9BA-D5934A66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1BCF-A5A3-4443-B0B1-493C4A98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2B7-C230-473D-B832-E99F85C0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4C9-9258-4D0C-8082-8F374EB1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257-FB53-4443-9E01-80F9443F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06E-E236-4039-815D-0D82BBF6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ACD-5670-423E-BFD3-92FD56F5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6C7-C3DB-484C-8BBA-F265F0D5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8C7-B145-4F47-ABC9-DFC6A52B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08CF-04DA-435E-A2C1-EB7F9142B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1447920"/>
            <a:ext cx="5867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eimliich Maneu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king is the body’s way of trying to remove a foreign object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7400" y="762120"/>
            <a:ext cx="495288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ok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ting (especially eating and laughing at the same time, eating too fast, and failing to chew food well enough.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 and drug consumption (even a small amount affects awareness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to the head and face (bleeding can cause choking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objects swallowed by children (beads, toys)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95280" y="304920"/>
            <a:ext cx="5715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auses Of Chok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oxygen the brain can begin to die within 4 to 6 minute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earning the Heimlich Maneuver-a simple life-saving technique-you may literally save the life of a choking victim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33720" y="228600"/>
            <a:ext cx="46479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ack Of OXY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is grabbing the throat with the hand (the universal sign for choking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otice they are gagg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ear a weak ineffective cough, noisy breathing, or high-pitched soun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is starting to look bl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2286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en Do I Use The Heimli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behind the choking person and wrap your arm around his or her wai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humb side of the fist against middle of person’s abdomen just above the navel and well below the rib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your fist into the person’s abdomen with quick, upward thru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abdominal thrusts until the object is coughed 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2280" y="0"/>
            <a:ext cx="4724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w To Do Heimlic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the expulsion of the object, keep the victim still and get medical hel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ions can arise from the incident or from the measures that were take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4572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lways Remember.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formation is not intended to be a substitute for professional medical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censed physician should be consulted for diagnosis and treatment of all medical cond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05120" y="0"/>
            <a:ext cx="5029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portant Noti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6:00:36Z</dcterms:created>
  <dc:creator>765892</dc:creator>
  <dc:description/>
  <dc:language>en-US</dc:language>
  <cp:lastModifiedBy>765892</cp:lastModifiedBy>
  <dcterms:modified xsi:type="dcterms:W3CDTF">2008-10-28T16:02:18Z</dcterms:modified>
  <cp:revision>3</cp:revision>
  <dc:subject/>
  <dc:title>Slide 1</dc:title>
</cp:coreProperties>
</file>